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074-D918-47F2-AF85-046E6596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371-F24E-4F38-98C0-C13C203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4CDC8-E0CB-419C-9CF1-56A21D7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3B488-E750-4B84-928C-59C5C2B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D852-9AB1-4FCC-880C-27E552D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AC25A-7FDA-4671-8C69-344B62F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69D07-0D6F-4BAB-9348-C218AD5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68CA-1104-4337-8737-32FAAB8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E6FB0-4FFC-4BFD-86C8-9B7F563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5A24-6DFE-43F7-8434-283F1F1F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F73D5-89E2-4BE3-8ADF-64C3F5D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88CE6-F2CB-4B61-9C06-DAC7C8CF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6D9-2B6C-4CDD-89BA-A0D8C23F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37934-3FFC-4BDA-AE50-CDE5FCFB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6ECD7-D695-4031-A257-DE3B5D09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752EA-215E-4346-BF09-3AC0E15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0BA49-01AF-4AD4-BE6A-10D77061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0C3B2-76F9-4546-B958-A5F37C97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D55DA-1C8D-4949-B7EA-69925D4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292E5-AA62-492F-85C7-9F497EA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B589E-8903-4F54-A6C3-114529B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F6F4C-8531-4EF6-B61C-2142D638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9401D-EBFA-44EA-9049-92DAD214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BF3-F39E-4888-993F-DF3EBB23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4BC04-E9C0-4A3A-B01F-56862A4B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9EF7-864A-429A-821E-8282FD88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41D6-BA0A-436E-80E9-113A073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2F11-4976-4D6D-B365-D695C53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4311-9348-4438-80BD-F750FD6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83DD-6DD2-460E-B55B-F1A3C113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88F1D-0C89-4123-A1C2-72B1008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9EB62-FE97-4FE3-BBE8-73DA151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62415-D677-4746-90B4-FB4B60C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F00F8-8801-4CEE-9501-A5E0815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B3D9-1FF4-45AB-987E-63DFA90E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9CC9-47B6-4A60-AAFF-D006667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D0B2-272A-432A-8C56-7175D7DF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EE7DD-49BA-46E5-8B6D-539D740C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531C7-8091-4241-B834-1E837C6A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7D192-CBCC-463A-A913-AF398CA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74867-A951-4589-BDEB-3EBBA1E6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32CB2-3882-4EE9-979D-4FA319E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D9FF1-7792-411B-AFB4-581DB994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F4C12-26D5-4728-A35B-56DD9278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A6E74-4173-4C9F-9F1F-4DE78BB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FEBB-214A-4540-97F7-F5B19620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A2AEC-69A8-4DB0-9A77-682117CF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D1A67-F759-4EB3-97BF-0E7DDF9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2C86F-8EAC-412A-A70E-C22E5BC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28473-E25E-4215-9E91-8E04A2E1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7418B-8F9E-426F-8251-7F04DEFC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EED5-0139-4E06-8B70-CEE9601C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040-0B47-4811-9F25-8C3625F1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4FDA-9BD7-4311-8D4D-9C2E54DD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524C-5635-4B0E-B9EE-B95EE1C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FAE2-3805-4760-9973-1C7B5D2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AD3-9979-4322-AF0E-3F2894AD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2FAE-F957-4850-8B23-AE45F428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20FB-E9DA-48A3-84B6-0A6F09B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3F9-8B65-44F0-9CCB-D1F4BBC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960E-2F0E-4391-BEDB-5B295041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7AED-1EBE-4C71-86D4-184B108E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036A-0DAF-499B-B978-89854960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F940-FEFC-4331-B39F-1F15EF1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B8A0-1A53-4606-B557-3A2D51F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BD47-C226-48EB-88A2-5F4BC4A9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BD6F-E67E-42C9-ACFD-54317D7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E20-E996-4092-B3A1-BCCA792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DAAE-0668-4E24-A6A1-0B2E9A65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01C4-295A-4B2C-A37E-9DE92876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F918-E356-43F2-87FE-133C4B8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FB6C-E0E2-4F00-9BAE-59FA81B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4D69-1B74-459F-9542-2EDE5694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276F-CCD2-4966-B237-BBA901F0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94F3-5CBB-4ED8-AFC8-1F7ED79C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0390-BBF2-4434-8BBA-1876F0BC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FD25-7616-4838-B217-0FF52286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8F33-13F2-4E40-A22A-C44332E2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DBC-7BDB-4D8C-B9CD-F8A7A3DB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F8B5-257C-4F2D-A2EA-50E5E7F6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AA03-5F68-4086-89DF-206C1316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F72A-07E7-49B9-8640-7E608BC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AB71-CA85-4569-9017-2E8AF808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2815-681E-4B6E-A83F-26053628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25C1-1648-4A18-A025-3934289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02CC-695C-4F86-BA7C-9BE8254E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1E26-C682-4AA7-BCA6-0488F3B0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2C156-F75F-4B4E-8D86-A655DCE9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FCF16-9F11-400E-93BA-959F8325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2DC-A0A4-42CB-B5F3-F07D47BD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A170-4256-420E-B6A1-1BB01996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FBDF-F1C2-4686-92D1-AC67BA24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C949-5616-4E4C-96E3-8589C3F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F16FD-ECDB-4598-B94A-0C6ADB05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5EC99-5CE8-4DD0-99FF-BD823F9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12E7-D285-4E16-A317-F8D9E6B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D76A3-81B7-40C9-B745-66E091E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5923-4AA2-4C70-888D-787AF11F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0498-DE02-4441-9C39-77CCC5D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3255C-1894-47C9-AD33-B8964FC9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444-678F-40D6-A9CB-A1A0DD9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E3E1-07C7-4F2B-9B43-FDEF9639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264A3-536B-467C-ADFE-F8C98786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0213-DBA1-4E40-9AC7-9C18B07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0DCE-A5AA-4F6A-BF42-AE70134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75B0-BE37-4CAB-A9CE-2773728B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7DFDC-6AC6-43C3-B3A1-9DFBD798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3E436-52B3-471B-A607-E1B4B2D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74EC-9B48-4569-8E26-70FDBC8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28959-C1E8-4EC4-A8FD-A732A85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A369-5D44-4BE6-BD65-78C832D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E6B-2CD5-46DF-A70E-CBCD487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3EDD8-1B26-4042-8373-EB610BF0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ECD1-36E4-401D-8119-053F065F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3516F-5589-49D9-8DC8-3F2679CD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1FE6F-3322-48A4-A25A-470C164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33D9-0EED-43FD-9145-6343F64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5454C-0A25-4225-A24F-3E890CAF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CA377-6757-4EF0-A0A3-7D42792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BB6E9-7078-4CFD-80D6-0D389E7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698D8-1979-4866-B93D-090D4E3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46CD-BD19-4C23-96BA-EEA7287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33D-F70F-4D37-8B98-CD823AB7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B16C-8600-4DE9-BC10-6AAB453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FB109-7483-4D24-8DF4-7E322A5C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FB8B4-3DEA-4234-A2EE-3691D97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551F0-31A7-4435-92D4-19D797A1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ED45B-67B7-4282-95A6-9D64AB15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44D3-7B0B-4B05-A056-8F0D76AE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6DE6-0029-45CF-BB92-4EA7819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894B3-7D0F-49EC-A9B4-E20AD6A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808EA-40DF-4A9A-92A5-92BB268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EABC-177B-42D7-BCFD-7AC68B7C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7EA-6158-4E2E-9307-0533ECEC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5520-0B3A-423A-A361-F80AC81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79F3-0093-4C6E-A2CB-57BBFF3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28BD-DD6C-4981-A3DF-6FFAB0E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63A5-7A5A-4018-B560-3C163B6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5DD8-9AC6-4E97-B5D1-1721E5A5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F5EA-3E1D-44C0-B212-F885D61B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FF7F-CFF0-48DC-9145-6D2A6253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7A1BE-C1E9-46C1-890D-60865A39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E927-A558-4CD1-8C8F-F348084B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3B3F7-4110-4106-A65B-93B1515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1399-B61C-4222-826A-A18837E122B9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36F0-9C60-448B-B677-6883A1F160D2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2F70-2D08-457D-B03B-EF6B02A4905D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4F1-6CF6-48D9-BDC9-5F5DE6EF8D17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31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9B9-C634-4506-8F29-494311BE5D9E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AD67-2D09-4D02-8DAE-507E9A8547A3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74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7C56-F70E-4B06-877C-2416923241E7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D0D-9E66-4EAE-B8DB-2A0DBC236774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4849-1989-4FF3-BBE2-A99E4C851D1D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6AF-5EFE-4D46-9139-0292E0A7EF54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87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D59E-564A-4E5E-AF42-6E93789CA3E4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5EC-8F46-4411-99EF-DE4D29FE4513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8045-2999-4217-8DB8-C3EEF61160C7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229-CD1B-4BA4-BFBD-B9DBEFB2F74C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CA18-50E9-4252-9E54-41528034D68F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247-803C-4EF5-A7C1-368E31B5A664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F4FF-022D-4D59-88D8-991579283225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D7BE-69B9-4E2F-9432-205C4B86994C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59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17CE-78A5-4E49-9FC9-1F8840FAAC27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1550-60EE-4E12-B993-7C0121F198EA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02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EAED-5EE3-4C90-8D18-231CA3A3E854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D8DA-2D75-4F1F-A262-B074007E37E4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:\SLIDEtoME\TP模板\新建文件夹 (2)\bg\bg62.jpg"/>
          <p:cNvPicPr/>
          <p:nvPr/>
        </p:nvPicPr>
        <p:blipFill>
          <a:blip r:embed="rId2"/>
          <a:stretch/>
        </p:blipFill>
        <p:spPr>
          <a:xfrm>
            <a:off x="-4680" y="-324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45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430-073F-48B1-817F-31DDF2176CF5}" type="datetime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87A6-0079-4C81-98DE-86D4268E7955}" type="slidenum">
              <a:rPr b="0" lang="zh-CN" sz="1200" spc="-1" strike="noStrike">
                <a:solidFill>
                  <a:srgbClr val="4b4b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D:\SLIDEtoME\TP模板\新建文件夹 (2)\bg\bg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点击此处添加幻灯主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95280" y="3139560"/>
            <a:ext cx="83534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4C6-384F-4F59-A033-1453D13913E5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6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7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2EB-F42A-4287-8F8D-6F6F844C14A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9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650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82E8-85F9-4479-9213-6C7814760135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2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3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15C0-5091-4A9A-B1DB-925EAEC1BD2A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54" name="Group 2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655" name="Freeform 65"/>
            <p:cNvSpPr/>
            <p:nvPr/>
          </p:nvSpPr>
          <p:spPr>
            <a:xfrm>
              <a:off x="676800" y="1631880"/>
              <a:ext cx="4841640" cy="186264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6" name="Freeform 66"/>
            <p:cNvSpPr/>
            <p:nvPr/>
          </p:nvSpPr>
          <p:spPr>
            <a:xfrm>
              <a:off x="4049640" y="2203920"/>
              <a:ext cx="558720" cy="570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70600"/>
                <a:gd name="textAreaBottom" fmla="*/ 570600 h 57060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7" name="Freeform 67"/>
            <p:cNvSpPr/>
            <p:nvPr/>
          </p:nvSpPr>
          <p:spPr>
            <a:xfrm>
              <a:off x="480960" y="2618280"/>
              <a:ext cx="1681200" cy="17629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8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9" name="Freeform 69"/>
            <p:cNvSpPr/>
            <p:nvPr/>
          </p:nvSpPr>
          <p:spPr>
            <a:xfrm>
              <a:off x="5547600" y="1708920"/>
              <a:ext cx="3273840" cy="315972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3159720"/>
                <a:gd name="textAreaBottom" fmla="*/ 3160080 h 315972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0" name="Freeform 70"/>
            <p:cNvSpPr/>
            <p:nvPr/>
          </p:nvSpPr>
          <p:spPr>
            <a:xfrm>
              <a:off x="659520" y="2083320"/>
              <a:ext cx="299520" cy="2278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1" name="Freeform 71"/>
            <p:cNvSpPr/>
            <p:nvPr/>
          </p:nvSpPr>
          <p:spPr>
            <a:xfrm>
              <a:off x="1951200" y="381060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2" name="Freeform 72"/>
            <p:cNvSpPr/>
            <p:nvPr/>
          </p:nvSpPr>
          <p:spPr>
            <a:xfrm>
              <a:off x="3203280" y="3378240"/>
              <a:ext cx="785160" cy="40968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3" name="Freeform 73"/>
            <p:cNvSpPr/>
            <p:nvPr/>
          </p:nvSpPr>
          <p:spPr>
            <a:xfrm>
              <a:off x="3547440" y="335160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4" name="Freeform 74"/>
            <p:cNvSpPr/>
            <p:nvPr/>
          </p:nvSpPr>
          <p:spPr>
            <a:xfrm>
              <a:off x="3957840" y="3463560"/>
              <a:ext cx="671400" cy="327600"/>
            </a:xfrm>
            <a:custGeom>
              <a:avLst/>
              <a:gdLst>
                <a:gd name="textAreaLeft" fmla="*/ 0 w 671400"/>
                <a:gd name="textAreaRight" fmla="*/ 671400 w 671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5" name="Freeform 75"/>
            <p:cNvSpPr/>
            <p:nvPr/>
          </p:nvSpPr>
          <p:spPr>
            <a:xfrm>
              <a:off x="3737880" y="3051720"/>
              <a:ext cx="238680" cy="341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6" name="Freeform 76"/>
            <p:cNvSpPr/>
            <p:nvPr/>
          </p:nvSpPr>
          <p:spPr>
            <a:xfrm>
              <a:off x="4404240" y="4481280"/>
              <a:ext cx="112320" cy="101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7" name="Freeform 77"/>
            <p:cNvSpPr/>
            <p:nvPr/>
          </p:nvSpPr>
          <p:spPr>
            <a:xfrm>
              <a:off x="4920480" y="4347360"/>
              <a:ext cx="318240" cy="3153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360"/>
                <a:gd name="textAreaBottom" fmla="*/ 315360 h 31536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8" name="Freeform 78"/>
            <p:cNvSpPr/>
            <p:nvPr/>
          </p:nvSpPr>
          <p:spPr>
            <a:xfrm>
              <a:off x="7583040" y="2955240"/>
              <a:ext cx="456480" cy="1519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9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b05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2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3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4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5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6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7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8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9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0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1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2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3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4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5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6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7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8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3" descr="D:\SLIDEtoME\TP模板\新建文件夹 (2)\bg\bg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214308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395280" y="2935080"/>
            <a:ext cx="835344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98C-371C-49E2-AAAE-1467AE01C35A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1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B33-C4AC-40B6-9748-D07DB7F256B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5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6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7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8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9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0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74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dc5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2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3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4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5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6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7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8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9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0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1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2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3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4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5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6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7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8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9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0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1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2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3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4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5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6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5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7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742600"/>
          </a:solidFill>
          <a:ln w="9360">
            <a:solidFill>
              <a:srgbClr val="3a1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8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9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0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1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2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3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4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565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566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7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8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" action="ppaction://hlinksldjump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3" descr="D:\SLIDEtoME\TP模板\新建文件夹 (2)\bg\bg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2895480"/>
            <a:ext cx="835344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353440" cy="4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B1A2-6D49-48E8-9471-F057EDEF2395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4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5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444-DDE5-4B1C-B8C7-A394C1AE95CB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7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578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9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3EF-5FDD-420B-B4B1-F8877F4DAAC8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1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2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28E-69CF-4B66-B78B-9D7455A787F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395280" y="1339920"/>
            <a:ext cx="8353440" cy="4610160"/>
            <a:chOff x="395280" y="1339920"/>
            <a:chExt cx="8353440" cy="4610160"/>
          </a:xfrm>
        </p:grpSpPr>
        <p:sp>
          <p:nvSpPr>
            <p:cNvPr id="585" name="Rectangle 5"/>
            <p:cNvSpPr/>
            <p:nvPr/>
          </p:nvSpPr>
          <p:spPr>
            <a:xfrm>
              <a:off x="2328840" y="1442160"/>
              <a:ext cx="6419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86" name="AutoShape 6"/>
            <p:cNvSpPr/>
            <p:nvPr/>
          </p:nvSpPr>
          <p:spPr>
            <a:xfrm>
              <a:off x="395280" y="1339920"/>
              <a:ext cx="193356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87" name="Rectangle 7"/>
            <p:cNvSpPr/>
            <p:nvPr/>
          </p:nvSpPr>
          <p:spPr>
            <a:xfrm>
              <a:off x="438480" y="1375920"/>
              <a:ext cx="18468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>
              <a:off x="2328840" y="2216880"/>
              <a:ext cx="6419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89" name="AutoShape 10"/>
            <p:cNvSpPr/>
            <p:nvPr/>
          </p:nvSpPr>
          <p:spPr>
            <a:xfrm>
              <a:off x="395280" y="2114280"/>
              <a:ext cx="193356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0" name="Rectangle 11"/>
            <p:cNvSpPr/>
            <p:nvPr/>
          </p:nvSpPr>
          <p:spPr>
            <a:xfrm>
              <a:off x="438480" y="2150280"/>
              <a:ext cx="18468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1" name="Rectangle 13"/>
            <p:cNvSpPr/>
            <p:nvPr/>
          </p:nvSpPr>
          <p:spPr>
            <a:xfrm>
              <a:off x="2328840" y="2991600"/>
              <a:ext cx="6419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2" name="AutoShape 14"/>
            <p:cNvSpPr/>
            <p:nvPr/>
          </p:nvSpPr>
          <p:spPr>
            <a:xfrm>
              <a:off x="395280" y="2889000"/>
              <a:ext cx="193356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3" name="Rectangle 15"/>
            <p:cNvSpPr/>
            <p:nvPr/>
          </p:nvSpPr>
          <p:spPr>
            <a:xfrm>
              <a:off x="438480" y="2925000"/>
              <a:ext cx="18468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4" name="Rectangle 17"/>
            <p:cNvSpPr/>
            <p:nvPr/>
          </p:nvSpPr>
          <p:spPr>
            <a:xfrm>
              <a:off x="2328840" y="3765960"/>
              <a:ext cx="6419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5" name="AutoShape 18"/>
            <p:cNvSpPr/>
            <p:nvPr/>
          </p:nvSpPr>
          <p:spPr>
            <a:xfrm>
              <a:off x="395280" y="3663360"/>
              <a:ext cx="193356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6" name="Rectangle 19"/>
            <p:cNvSpPr/>
            <p:nvPr/>
          </p:nvSpPr>
          <p:spPr>
            <a:xfrm>
              <a:off x="438480" y="3699360"/>
              <a:ext cx="18468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7" name="Rectangle 21"/>
            <p:cNvSpPr/>
            <p:nvPr/>
          </p:nvSpPr>
          <p:spPr>
            <a:xfrm>
              <a:off x="2328840" y="4540680"/>
              <a:ext cx="6419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395280" y="4438080"/>
              <a:ext cx="193356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9" name="Rectangle 23"/>
            <p:cNvSpPr/>
            <p:nvPr/>
          </p:nvSpPr>
          <p:spPr>
            <a:xfrm>
              <a:off x="438480" y="4474080"/>
              <a:ext cx="18468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2328840" y="5315040"/>
              <a:ext cx="6419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1" name="AutoShape 26"/>
            <p:cNvSpPr/>
            <p:nvPr/>
          </p:nvSpPr>
          <p:spPr>
            <a:xfrm>
              <a:off x="395280" y="5212440"/>
              <a:ext cx="193356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2" name="Rectangle 27"/>
            <p:cNvSpPr/>
            <p:nvPr/>
          </p:nvSpPr>
          <p:spPr>
            <a:xfrm>
              <a:off x="438480" y="5248440"/>
              <a:ext cx="184680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1EEE-133C-46B8-8E95-923604C608EF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4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5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65A-65A8-4B87-8E35-E415672495F8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608" name="AutoShape 4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0" name="AutoShape 6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314640 w 2149200"/>
                <a:gd name="textAreaRight" fmla="*/ 1834560 w 2149200"/>
                <a:gd name="textAreaTop" fmla="*/ 390960 h 2671200"/>
                <a:gd name="textAreaBottom" fmla="*/ 228024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50" y="16676"/>
                  </a:moveTo>
                  <a:cubicBezTo>
                    <a:pt x="20361" y="14956"/>
                    <a:pt x="21011" y="12903"/>
                    <a:pt x="21011" y="10800"/>
                  </a:cubicBezTo>
                  <a:cubicBezTo>
                    <a:pt x="21011" y="5160"/>
                    <a:pt x="16439" y="589"/>
                    <a:pt x="10800" y="589"/>
                  </a:cubicBezTo>
                  <a:cubicBezTo>
                    <a:pt x="5160" y="589"/>
                    <a:pt x="589" y="5160"/>
                    <a:pt x="589" y="10800"/>
                  </a:cubicBezTo>
                  <a:cubicBezTo>
                    <a:pt x="588" y="12567"/>
                    <a:pt x="1047" y="14305"/>
                    <a:pt x="1920" y="15842"/>
                  </a:cubicBezTo>
                  <a:lnTo>
                    <a:pt x="1408" y="16133"/>
                  </a:lnTo>
                  <a:cubicBezTo>
                    <a:pt x="485" y="14507"/>
                    <a:pt x="0" y="12669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3025"/>
                    <a:pt x="20912" y="15196"/>
                    <a:pt x="19631" y="17015"/>
                  </a:cubicBezTo>
                  <a:lnTo>
                    <a:pt x="21839" y="18569"/>
                  </a:lnTo>
                  <a:lnTo>
                    <a:pt x="17667" y="19295"/>
                  </a:lnTo>
                  <a:lnTo>
                    <a:pt x="16942" y="15122"/>
                  </a:lnTo>
                  <a:lnTo>
                    <a:pt x="19150" y="16676"/>
                  </a:lnTo>
                  <a:close/>
                </a:path>
              </a:pathLst>
            </a:custGeom>
            <a:gradFill rotWithShape="0">
              <a:gsLst>
                <a:gs pos="0">
                  <a:srgbClr val="77a07f"/>
                </a:gs>
                <a:gs pos="100000">
                  <a:srgbClr val="9cd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1" name="AutoShape 7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2" name="Rectangle 8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3" name="AutoShape 9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5" name="AutoShape 11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352440 w 2408760"/>
                <a:gd name="textAreaRight" fmla="*/ 2056320 w 2408760"/>
                <a:gd name="textAreaTop" fmla="*/ 438480 h 2994120"/>
                <a:gd name="textAreaBottom" fmla="*/ 255564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266" y="4979"/>
                  </a:moveTo>
                  <a:cubicBezTo>
                    <a:pt x="17349" y="2191"/>
                    <a:pt x="14183" y="525"/>
                    <a:pt x="10799" y="526"/>
                  </a:cubicBezTo>
                  <a:cubicBezTo>
                    <a:pt x="7103" y="526"/>
                    <a:pt x="3691" y="2511"/>
                    <a:pt x="1866" y="5726"/>
                  </a:cubicBezTo>
                  <a:lnTo>
                    <a:pt x="1408" y="5466"/>
                  </a:lnTo>
                  <a:cubicBezTo>
                    <a:pt x="3327" y="2087"/>
                    <a:pt x="6914" y="0"/>
                    <a:pt x="10799" y="0"/>
                  </a:cubicBezTo>
                  <a:cubicBezTo>
                    <a:pt x="14356" y="-1"/>
                    <a:pt x="17685" y="1751"/>
                    <a:pt x="19699" y="4681"/>
                  </a:cubicBezTo>
                  <a:lnTo>
                    <a:pt x="21924" y="3152"/>
                  </a:lnTo>
                  <a:lnTo>
                    <a:pt x="21162" y="7272"/>
                  </a:lnTo>
                  <a:lnTo>
                    <a:pt x="17041" y="6509"/>
                  </a:lnTo>
                  <a:lnTo>
                    <a:pt x="19266" y="4979"/>
                  </a:lnTo>
                  <a:close/>
                </a:path>
              </a:pathLst>
            </a:custGeom>
            <a:gradFill rotWithShape="0">
              <a:gsLst>
                <a:gs pos="0">
                  <a:srgbClr val="77a07f"/>
                </a:gs>
                <a:gs pos="100000">
                  <a:srgbClr val="9cd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6" name="AutoShape 12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7" name="Rectangle 13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8" name="AutoShape 14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9" name="Rectangle 15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0" name="AutoShape 16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813b"/>
                </a:gs>
                <a:gs pos="100000">
                  <a:srgbClr val="00ab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1" name="Rectangle 17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E42D-7BC3-431C-A28D-3A172DCB8FD7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3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4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4FD-0063-4D36-BF9F-FBB5DFCCDFFC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627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E29-BA10-4079-B191-ED116E573B62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9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0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83E-D198-4397-8033-458CA6001BFC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634" name="Object 5"/>
          <p:cNvGraphicFramePr/>
          <p:nvPr/>
        </p:nvGraphicFramePr>
        <p:xfrm>
          <a:off x="4502160" y="1333440"/>
          <a:ext cx="3884760" cy="44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2160" y="1333440"/>
                    <a:ext cx="388476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6"/>
          <p:cNvGraphicFramePr/>
          <p:nvPr/>
        </p:nvGraphicFramePr>
        <p:xfrm>
          <a:off x="520560" y="1333440"/>
          <a:ext cx="3705480" cy="4448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1333440"/>
                    <a:ext cx="37054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31E0-87D1-4AF5-873D-CB0BD7BA4C81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9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0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957-662F-4690-B79A-E7FFEED73323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450720" y="1193760"/>
          <a:ext cx="821700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193760"/>
                    <a:ext cx="8217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20:00Z</dcterms:created>
  <dc:creator>P1; P2</dc:creator>
  <dc:description>我爱PPT中文网</dc:description>
  <cp:keywords>XS-普屏 4：3;SC-淡绿色;BG-浅色;DH-静态;XJ-二级</cp:keywords>
  <dc:language>en-US</dc:language>
  <cp:lastModifiedBy>Administrator</cp:lastModifiedBy>
  <dcterms:modified xsi:type="dcterms:W3CDTF">2017-07-07T15:19:25Z</dcterms:modified>
  <cp:revision>11</cp:revision>
  <dc:subject>TP-环境生态</dc:subject>
  <dc:title>TP-01-00115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